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9DD9-3FDD-44B8-9FAB-287E40814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837720" y="4343400"/>
            <a:ext cx="52578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min Assistant – Régine Van Cauwenberg – NATO Top Secret Clear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lgian National with 30+ years NC3A experience. Fluent in English, French, and German. She has in-depth knowledge of NATO projects and procurement methodologies.  Prepared to retire from NATO to join ManTech.  I’ve known her for 15 years.  Well able to take over all administrative functions.  Extremely loyal.</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ds &amp; Proposals – Robert Walker – NATO Top Secret Clear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K. National with 30+ years NATO experience.  Fluent English/French.  He has in-depth knowledge of NATO proposals and has written more than 50 statements of work for various NATO projects.  Worked at NC3A for more than 20 years.  Provided support to ManTech on ISAF Expansion and Connection of Users IFBs. Will prepare bids for the smaller value proposals that have been our bread &amp; butter in the past.  Able to deploy to Colorado Springs in support of larger NATO IFBs.  Eager to work for ManTec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urrent Operations – Yvan Blomme – NATO Top Secret Clear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lgian National with 5+ years experience with NATO as the NATO Account Manager for Aubay. Able to work with me seamlessly on our current contracts and to take the workload for these from me so that I can concentrate on business development.  I trust him complete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three of these folks will sign Non-Disclosure Agreements.  I trust all three of them implicitly.  If I get to put my team together these are the ones I wan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800E6-9A86-4661-987E-67EEE3D1D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1304D-325D-432F-AA28-7478D4C10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2DF89-CAA4-42D4-9659-120908D76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E2F0F-2DBA-4F6C-B987-45262EECA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589A3-E083-418C-9700-E267B927C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9D755-8954-482F-8792-2B96EB576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E802C-5746-408F-A9A9-163581654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3A8EB-C4D2-4538-9B49-8925B7320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E09BE-A08C-4760-A89D-88317116C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EA96D-8AE1-49F4-8706-F551D8F95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EE905-11B0-47B2-AF0B-EC2305DD0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2A008-9D14-4F9A-BDAF-E4321D00F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4705-142F-4D3A-9C7A-376F0B7135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581960" y="43434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943280" y="43434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610160" y="2514600"/>
            <a:ext cx="0" cy="22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028880" y="2438280"/>
            <a:ext cx="22096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rlette Verhaegh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dministrative Assista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Belgian - CTS</a:t>
            </a:r>
            <a:endParaRPr b="0" lang="en-US" sz="1400" spc="-1" strike="noStrike">
              <a:solidFill>
                <a:srgbClr val="000000"/>
              </a:solidFill>
              <a:latin typeface="Arial"/>
            </a:endParaRPr>
          </a:p>
        </p:txBody>
      </p:sp>
      <p:sp>
        <p:nvSpPr>
          <p:cNvPr id="52" name=""/>
          <p:cNvSpPr/>
          <p:nvPr/>
        </p:nvSpPr>
        <p:spPr>
          <a:xfrm>
            <a:off x="3657600" y="4724280"/>
            <a:ext cx="1905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Yvan Blom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urrent Operat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Belgian - CTS</a:t>
            </a:r>
            <a:endParaRPr b="0" lang="en-US" sz="1400" spc="-1" strike="noStrike">
              <a:solidFill>
                <a:srgbClr val="000000"/>
              </a:solidFill>
              <a:latin typeface="Arial"/>
            </a:endParaRPr>
          </a:p>
        </p:txBody>
      </p:sp>
      <p:sp>
        <p:nvSpPr>
          <p:cNvPr id="53" name=""/>
          <p:cNvSpPr/>
          <p:nvPr/>
        </p:nvSpPr>
        <p:spPr>
          <a:xfrm>
            <a:off x="762120" y="4724280"/>
            <a:ext cx="2286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Ron Vanleishout</a:t>
            </a:r>
            <a:br>
              <a:rPr sz="1400"/>
            </a:br>
            <a:r>
              <a:rPr b="0" lang="en-US" sz="1400" spc="-1" strike="noStrike">
                <a:solidFill>
                  <a:srgbClr val="333399"/>
                </a:solidFill>
                <a:latin typeface="Arial"/>
              </a:rPr>
              <a:t>Technical Director (SHAP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merican - CTS</a:t>
            </a:r>
            <a:endParaRPr b="0" lang="en-US" sz="1400" spc="-1" strike="noStrike">
              <a:solidFill>
                <a:srgbClr val="000000"/>
              </a:solidFill>
              <a:latin typeface="Arial"/>
            </a:endParaRPr>
          </a:p>
        </p:txBody>
      </p:sp>
      <p:sp>
        <p:nvSpPr>
          <p:cNvPr id="54" name=""/>
          <p:cNvSpPr/>
          <p:nvPr/>
        </p:nvSpPr>
        <p:spPr>
          <a:xfrm>
            <a:off x="6438960" y="4724280"/>
            <a:ext cx="22096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avid Ro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Technical Director - JALL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merican – CTS</a:t>
            </a:r>
            <a:endParaRPr b="0" lang="en-US" sz="1400" spc="-1" strike="noStrike">
              <a:solidFill>
                <a:srgbClr val="000000"/>
              </a:solidFill>
              <a:latin typeface="Arial"/>
            </a:endParaRPr>
          </a:p>
        </p:txBody>
      </p:sp>
      <p:sp>
        <p:nvSpPr>
          <p:cNvPr id="55" name=""/>
          <p:cNvSpPr/>
          <p:nvPr/>
        </p:nvSpPr>
        <p:spPr>
          <a:xfrm>
            <a:off x="3429000" y="1752480"/>
            <a:ext cx="2286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Lindy Martin</a:t>
            </a:r>
            <a:br>
              <a:rPr sz="1400"/>
            </a:br>
            <a:r>
              <a:rPr b="0" lang="en-US" sz="1400" spc="-1" strike="noStrike">
                <a:solidFill>
                  <a:srgbClr val="333399"/>
                </a:solidFill>
                <a:latin typeface="Arial"/>
              </a:rPr>
              <a:t>Executive 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ManTech Space Syste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NATO Operations</a:t>
            </a:r>
            <a:endParaRPr b="0" lang="en-US" sz="1400" spc="-1" strike="noStrike">
              <a:solidFill>
                <a:srgbClr val="000000"/>
              </a:solidFill>
              <a:latin typeface="Arial"/>
            </a:endParaRPr>
          </a:p>
        </p:txBody>
      </p:sp>
      <p:sp>
        <p:nvSpPr>
          <p:cNvPr id="56" name=""/>
          <p:cNvSpPr/>
          <p:nvPr/>
        </p:nvSpPr>
        <p:spPr>
          <a:xfrm>
            <a:off x="3505320" y="3048120"/>
            <a:ext cx="2133360" cy="91440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Joe Moed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Deputy 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merican - NATO Secret</a:t>
            </a:r>
            <a:endParaRPr b="0" lang="en-US" sz="1400" spc="-1" strike="noStrike">
              <a:solidFill>
                <a:srgbClr val="000000"/>
              </a:solidFill>
              <a:latin typeface="Arial"/>
            </a:endParaRPr>
          </a:p>
        </p:txBody>
      </p:sp>
      <p:sp>
        <p:nvSpPr>
          <p:cNvPr id="57" name=""/>
          <p:cNvSpPr/>
          <p:nvPr/>
        </p:nvSpPr>
        <p:spPr>
          <a:xfrm>
            <a:off x="1943280" y="434340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238560" y="28954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295280" y="609480"/>
            <a:ext cx="6858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sed ManTech Space Systems NATO Operations Organisation Struc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7T13:12:27Z</dcterms:created>
  <dc:creator>Lindy Martin</dc:creator>
  <dc:description/>
  <dc:language>en-US</dc:language>
  <cp:lastModifiedBy>Lindy Martin</cp:lastModifiedBy>
  <dcterms:modified xsi:type="dcterms:W3CDTF">2007-02-13T14:07:31Z</dcterms:modified>
  <cp:revision>4</cp:revision>
  <dc:subject/>
  <dc:title>Slide 1</dc:title>
</cp:coreProperties>
</file>